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A0C-DE8E-4DF4-9CAD-540E15CF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E99-05B4-44B1-B01D-DE65365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193-6A20-4A78-AF60-DDEB1F87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B39-17E2-4547-B624-BEE918FA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83D3-5F3A-4B69-A616-76F6CE2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EBCB-396C-4C05-8C72-ABE84FF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618E-A999-4BFA-B9A9-0A4BBD56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811-42A6-4426-8A12-1CA065CB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8B83-FAF3-4299-B5C0-B12940F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6F2-26FF-40D2-A1CB-C60445C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506-0073-416D-AF43-F2C55546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0BC-EE77-4CDA-B07C-AB90C281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5C5D-46F7-475F-A142-83DAE53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6B56-BA73-4BAE-B10A-459250F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6F5-E2AA-4663-A7DF-EC909A8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03A-AAA4-407D-9022-5264D259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5B1-CDFC-4518-AAEB-63C08D22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C01-A4F5-42F4-AFC5-36043D81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A1F-6853-4ADD-A61C-00DA99F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E01-D21C-444D-B604-86CE32A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C08-D68F-4CDF-A883-DE0B0890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BFC-2B0C-47E2-B6DE-4641276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4D5-1EFA-4834-89FF-1F57906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8C7-A457-4A8D-B594-1B43628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E479-3085-49CE-939F-CB3224C6A62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CB9-ACD9-4496-A2A2-D750C70271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3dcell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some differences between prokaryotic and eukaryotic cells?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an example of each.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>
            <a:hlinkClick r:id="rId1"/>
          </p:cNvPr>
          <p:cNvSpPr/>
          <p:nvPr/>
        </p:nvSpPr>
        <p:spPr>
          <a:xfrm>
            <a:off x="3657600" y="46483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42" h="21600">
                <a:moveTo>
                  <a:pt x="1152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42" h="21600">
                <a:moveTo>
                  <a:pt x="8945" y="8224"/>
                </a:moveTo>
                <a:lnTo>
                  <a:pt x="12809" y="8224"/>
                </a:lnTo>
                <a:lnTo>
                  <a:pt x="12809" y="15221"/>
                </a:lnTo>
                <a:lnTo>
                  <a:pt x="14097" y="15221"/>
                </a:lnTo>
                <a:lnTo>
                  <a:pt x="14097" y="16144"/>
                </a:lnTo>
                <a:lnTo>
                  <a:pt x="8945" y="16144"/>
                </a:lnTo>
                <a:lnTo>
                  <a:pt x="8945" y="15221"/>
                </a:lnTo>
                <a:lnTo>
                  <a:pt x="10233" y="15221"/>
                </a:lnTo>
                <a:lnTo>
                  <a:pt x="10233" y="9129"/>
                </a:lnTo>
                <a:lnTo>
                  <a:pt x="8945" y="912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1:07Z</dcterms:created>
  <dc:creator>PritchaJ</dc:creator>
  <dc:description/>
  <dc:language>en-US</dc:language>
  <cp:lastModifiedBy>PritchaJ</cp:lastModifiedBy>
  <dcterms:modified xsi:type="dcterms:W3CDTF">2011-06-01T15:15:23Z</dcterms:modified>
  <cp:revision>1</cp:revision>
  <dc:subject/>
  <dc:title>Slide 1</dc:title>
</cp:coreProperties>
</file>